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ster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1-05-19T10:28:12.171000000" idx="1">
    <p:pos x="1661" y="1908"/>
    <p:text>on dirait: "du bois"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A76E-8E41-4A3C-9EA0-0BAD520BDA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EBF5-1E88-4295-B8FA-CC7DAD3AE4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E0E-ACE0-4CB4-93C9-292EDCEE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980-60CF-435A-AAFE-228C9F8D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EDAA6-E87D-4ACF-9685-E121BDEF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27BFB-2560-4857-90C5-90F12AA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843D-BEC8-4CBE-87F6-2A25E29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2F873-6ACA-4A10-AB9B-C8184D8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CCF4B-978C-424A-8B63-312E205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7EDD-5C14-4555-944C-B125378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A821A-06F8-4E8F-B00B-6E35D8C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8E32D-BDE0-4A1D-B7C2-F5C7A261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82BE0-CF07-4570-9B31-59A77BF4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31B-E403-472C-A827-9C7C2483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B55-F2C1-4FCB-8AEC-CC6B7B1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3F1D-D7AE-4C22-BE3D-9AF68351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3139-BB52-42FE-ABC7-4B3D14CD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2431-3C69-4DCF-804F-57DE334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7AC6-A7B8-495D-B35B-C34BFF7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973A-E048-42E2-8F48-85A47D5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D766-67AE-4189-AD00-9D8E278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91B6-D568-4CFB-BE1C-6B4B4B05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D4A-7264-4B47-812B-F084EFB9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D0B-E0E7-47CE-947B-87C88E1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33EF-60EE-46AD-A3C7-C19C1F2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E0A1-7516-4DB1-B0C1-1D4440CF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7D12-4D58-40C4-95FB-507C1ADF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EA17-8A09-4ACB-8989-29D57120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C3F1-1272-4BBD-8AD8-455CC8E0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1CF5-C906-469B-BE2E-781854F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E2C9-8AD7-4337-A17F-56F395F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90F1-E1B8-4BC5-A937-A360EA6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9172-F0DE-461C-A4FA-B6ED90A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654-4F29-4110-AF71-99D6DB96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4E26-B859-4564-8CC6-95E7D07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CA2D-3385-4D54-87A6-FDE5040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8E6F-809C-40AF-961A-DA2B414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5F89-8AA5-4346-9159-7A2A677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A983-6598-43EC-B164-88F4C359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5C06-16D6-41E4-BC3F-2B290928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81B3-1E0D-4064-873A-4A71BA29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1260-51AC-4B98-8C65-DCC94184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E454-DD29-4C54-95BF-B8FEC9D1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0DBF-5CCA-4646-9222-E416BF5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771-9524-4592-8BBB-D8877F2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2BB9-0B61-433F-BB3F-D14B911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1C37-B8B7-4331-A596-C5022A3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8814-03DA-41EC-A7D3-B179CF3E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9CA3-5247-42E4-ACA9-384DC6F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78FB-1A6C-4AC2-88EB-F52073F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61EB-D813-4DC6-B5AF-2DAA8B7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D838-735F-4B80-8D2D-32C4DEE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0064-A988-4D39-A9B8-5E3E7C9B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B54E-FCBE-4119-BE65-D7DF4DFC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D950-7DED-436C-8079-3BA2DD81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7FA-3A9D-4719-9A7B-B5529B3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8250-827C-4653-B0C9-AEFF292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A316-B510-4C94-B7AE-04D2B47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D655-3619-4F78-91E5-63A52E7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B7AD-A12F-4133-9869-A01CD30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6FD2-1B1C-4B31-BADA-F11BD5DF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3902-A6F5-4C60-B21E-F35655E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CC88E-57DA-4E03-8FBC-E78916C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0E677-B8B1-4D67-B81E-BFD041B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DA48-BF35-47C9-85BC-2DC05303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E729-12EE-4EA4-A772-74B70EA3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1BC-5264-4819-96F8-8EDBD0B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B40F-B248-40EF-AA73-8F7FC6A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56BC-2D03-4B26-BCDB-19064111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2B016-2177-4C64-AF7E-08FDAF7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39190-F945-4831-9D59-C1C24AA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CCACE-2E78-4016-A17F-45E917A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4A95-D3AA-4BFE-9E2D-72170AD9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7E19-16F8-49E9-AB56-ADCC6EA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4C95-6188-4FD7-9513-5A1FBA7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52F4-05F5-485F-8C64-0168004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87E4-C832-4F88-8640-BF20210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733-3A26-4564-B24F-CB2E2ED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01BA-FECA-4B62-BE3F-2341594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37B9-EE2D-4AD6-83A4-7D25066A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6581-D581-4B3A-B91D-A4878367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DEAF-C0B9-45EF-8A3C-29AA86BC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5B50-B312-4A25-B526-1633ADD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1E14-BE93-452D-9D11-FA4E72DF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56FBD-AC15-4313-A031-80BEBF4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9A4B-1CE0-4AFB-8332-143AEF1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9D03-AEAE-455F-B2C9-7D936455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81C3-B2E0-4C33-93A1-5CEAD9E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2E6-D53B-4B9F-8002-C48F8E6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1243-675F-4DDC-B396-E771E31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21D0-D889-423F-9313-982C2B3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84BA-21D5-4A44-88EC-0E63420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6A0E-540B-42F5-96B8-D1A35C48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27532-62B3-467F-BC9C-531114ED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101E-B81D-4F1D-A306-F2C28688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BC59-4D0F-4EF6-9E6E-694ADDE5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7450-4814-49B5-9C24-EF6EC8A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34359-A97C-4A11-B163-2CFDF70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7FBA-A223-414F-BEEB-38E007C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B54-6ACE-49A0-A1C6-1F7CCED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B6D6-87DF-4A58-96BB-BF1E6AC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30E0-9110-4CE5-9CD9-E59B0DF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D849-2C63-45AF-9F6C-DFC8706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BD6F-13CB-4BA4-A441-C010E01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FFBB-E322-4F3E-8151-E9F65703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94C0-C382-4D04-AB5B-34D5E0DD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9031-9AA6-4FC3-A9AE-CA677DC1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4FA42-E28A-4F85-B7A7-E201D5E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37D92-9FA9-4A45-841F-E955C2E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110B-989D-4082-B7D0-54263C25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E50-5F67-4E9E-A4FB-D037139E2E93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e5dc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9e5d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0A7-B4F2-4181-AB5E-05EA8188F1EA}" type="slidenum">
              <a:rPr b="0" lang="es-AR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48B-799C-4E11-BDD3-D16B2DCF563B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D630-9C1F-4654-B46E-D626AE38D20B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D56-2FE2-4CEB-94CA-9F44A2A4291B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7F4A-E281-440F-880D-28EE758F9A16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497-0E9C-4346-ABAD-58BE2E5FA48B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6BB-C80F-4F2E-AE32-4FB4F92DBD35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a6a1a1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9360">
              <a:solidFill>
                <a:srgbClr val="a6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CBB-98F8-437C-9A1D-B4D97A189D04}" type="slidenum">
              <a:rPr b="0" lang="es-AR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2962440" y="2328840"/>
            <a:ext cx="3176280" cy="3638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6000" spc="-1" strike="noStrike">
                <a:solidFill>
                  <a:srgbClr val="742217"/>
                </a:solidFill>
                <a:latin typeface="Monotype Corsiva"/>
              </a:rPr>
              <a:t>La Maison</a:t>
            </a:r>
            <a:br>
              <a:rPr sz="6000"/>
            </a:br>
            <a:r>
              <a:rPr b="0" lang="es-UY" sz="6000" spc="-1" strike="noStrike">
                <a:solidFill>
                  <a:srgbClr val="742217"/>
                </a:solidFill>
                <a:latin typeface="Monotype Corsiva"/>
              </a:rPr>
              <a:t>Bar</a:t>
            </a:r>
            <a:endParaRPr b="0" lang="en-US" sz="60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3 Marcador de contenido" descr="bar clasico.jpg"/>
          <p:cNvPicPr/>
          <p:nvPr/>
        </p:nvPicPr>
        <p:blipFill>
          <a:blip r:embed="rId1"/>
          <a:stretch/>
        </p:blipFill>
        <p:spPr>
          <a:xfrm>
            <a:off x="3571920" y="3214800"/>
            <a:ext cx="4762440" cy="3143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680000"/>
                </a:solidFill>
                <a:latin typeface="Book Antiqua"/>
              </a:rPr>
              <a:t>La Maison Bar offre des spécialement exceptionnelles cocktails dans l’hôtel Massalia. </a:t>
            </a:r>
            <a:br>
              <a:rPr sz="4900"/>
            </a:br>
            <a:endParaRPr b="0" lang="en-US" sz="32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35" name="4 Rectángulo"/>
          <p:cNvSpPr/>
          <p:nvPr/>
        </p:nvSpPr>
        <p:spPr>
          <a:xfrm>
            <a:off x="500040" y="2143080"/>
            <a:ext cx="264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Ce bar est très classique, avec des madères robustes en ses meubles </a:t>
            </a:r>
            <a:r>
              <a:rPr b="0" lang="fr-FR" sz="2800" spc="-1" strike="noStrike">
                <a:solidFill>
                  <a:srgbClr val="ff0000"/>
                </a:solidFill>
                <a:latin typeface="Book Antiqua"/>
              </a:rPr>
              <a:t>anciens </a:t>
            </a: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et vous avez un point de vue magnifique sur la piscine</a:t>
            </a:r>
            <a:r>
              <a:rPr b="0" lang="fr-F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3 Marcador de contenido" descr="vista desde adentro.jpg"/>
          <p:cNvPicPr/>
          <p:nvPr/>
        </p:nvPicPr>
        <p:blipFill>
          <a:blip r:embed="rId1"/>
          <a:stretch/>
        </p:blipFill>
        <p:spPr>
          <a:xfrm>
            <a:off x="4788000" y="3149640"/>
            <a:ext cx="2838240" cy="2122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47520" y="115920"/>
            <a:ext cx="7272360" cy="24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80000"/>
                </a:solidFill>
                <a:latin typeface="Book Antiqua"/>
              </a:rPr>
              <a:t>Le bar est ouvert chaque jour de 16hs à 24hs. Il y a un grand varié de cocktails bon marche. 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38" name="Rectangle 2"/>
          <p:cNvSpPr/>
          <p:nvPr/>
        </p:nvSpPr>
        <p:spPr>
          <a:xfrm flipV="1" rot="10506600">
            <a:off x="981000" y="2967120"/>
            <a:ext cx="31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A la terrasse du café, tous les soirs, vous pouvez jouir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Calibri"/>
              </a:rPr>
              <a:t>de la musique  de </a:t>
            </a: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jazz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Calibri"/>
              </a:rPr>
              <a:t>avec un musicien en vif,</a:t>
            </a:r>
            <a:r>
              <a:rPr b="0" lang="fr-FR" sz="2400" spc="-1" strike="noStrike">
                <a:solidFill>
                  <a:srgbClr val="680000"/>
                </a:solidFill>
                <a:latin typeface="Arial"/>
                <a:ea typeface="Calibri"/>
              </a:rPr>
              <a:t> Le petit concert est à 21h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5 Marcador de contenido" descr="bar_at_the_iberostar_odysseus.jpg"/>
          <p:cNvPicPr/>
          <p:nvPr/>
        </p:nvPicPr>
        <p:blipFill>
          <a:blip r:embed="rId1"/>
          <a:stretch/>
        </p:blipFill>
        <p:spPr>
          <a:xfrm>
            <a:off x="1500120" y="20718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8680" y="569880"/>
            <a:ext cx="769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A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côté 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du bar, vous pouvez trouver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notre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moderne comptoir, avec grand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e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varié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té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de boisson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Book Antiqua"/>
              </a:rPr>
              <a:t>élaborées par </a:t>
            </a:r>
            <a:r>
              <a:rPr b="0" lang="fr-FR" sz="2000" spc="-1" strike="noStrike">
                <a:solidFill>
                  <a:srgbClr val="680000"/>
                </a:solidFill>
                <a:latin typeface="Book Antiqua"/>
              </a:rPr>
              <a:t>notre barman C’est aussi des nouvelles banquettes hautes et très confortables.</a:t>
            </a:r>
            <a:br>
              <a:rPr sz="4900"/>
            </a:br>
            <a:r>
              <a:rPr b="0" lang="fr-FR" sz="4900" spc="-1" strike="noStrike">
                <a:solidFill>
                  <a:srgbClr val="696464"/>
                </a:solidFill>
                <a:latin typeface="Book Antiqua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3 Imagen" descr=""/>
          <p:cNvPicPr/>
          <p:nvPr/>
        </p:nvPicPr>
        <p:blipFill>
          <a:blip r:embed="rId1"/>
          <a:stretch/>
        </p:blipFill>
        <p:spPr>
          <a:xfrm>
            <a:off x="5643720" y="3786120"/>
            <a:ext cx="2592360" cy="201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2" name=""/>
          <p:cNvSpPr txBox="1"/>
          <p:nvPr/>
        </p:nvSpPr>
        <p:spPr>
          <a:xfrm>
            <a:off x="642600" y="2143080"/>
            <a:ext cx="73580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bar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offre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 des spectacles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différents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 pour les hôtes.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Le samedi soir, 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bar offre le spectacle "par le ciel" au compte de l'école de cirque où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vous pourrez </a:t>
            </a: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jouir de deux heures d'un spectacle </a:t>
            </a:r>
            <a:r>
              <a:rPr b="0" lang="fr-FR" sz="2400" spc="-1" strike="noStrike">
                <a:solidFill>
                  <a:srgbClr val="ff0000"/>
                </a:solidFill>
                <a:latin typeface="Book Antiqua"/>
              </a:rPr>
              <a:t>à ne pas manqu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SPECTACLES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sp>
        <p:nvSpPr>
          <p:cNvPr id="444" name="4 Rectángulo"/>
          <p:cNvSpPr/>
          <p:nvPr/>
        </p:nvSpPr>
        <p:spPr>
          <a:xfrm>
            <a:off x="1000080" y="4071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Dimanche après 22 heures vous pouvez accompagner les délicieux cocktails du piano en charge du maître Richard Clayderma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62626"/>
                </a:solidFill>
                <a:latin typeface="Book Antiqua"/>
              </a:rPr>
              <a:t>Le mardi et le jeudi après le déjeuner, le barman apprend de préparer ses cocktails aux hôtes de l'hôtel. Le mardi il apprend des recettes et pas à pas de Cidre avec jus de pomme et champagne et Amour Sauvage et le jeudi de cocktails de boissons glacées comme  Margarita congelé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COURS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  <p:pic>
        <p:nvPicPr>
          <p:cNvPr id="447" name="4 Imagen" descr=""/>
          <p:cNvPicPr/>
          <p:nvPr/>
        </p:nvPicPr>
        <p:blipFill>
          <a:blip r:embed="rId1"/>
          <a:stretch/>
        </p:blipFill>
        <p:spPr>
          <a:xfrm>
            <a:off x="5786280" y="4500720"/>
            <a:ext cx="2489400" cy="2043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1280" y="2060280"/>
            <a:ext cx="7834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le sont les métiers d’un barman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Les métiers d’un barman sont : être responsables au comptoir, préparer les boissons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quoi est-ce que vous avez choisir ce travai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J’ai choisir ce travail parc que dans la vacance avec mes amis a la cote d’azur, j’avez profiter de l’occasion de travail dans le bar d’un disco et j’aimée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Ou est-ce que vous étudiez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J’ai étudié dans l’université de Lausanne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 est vous premier expérience du travai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Ma première expérience du travail est dans l’hôtel Marriott de Lausanne. J’ai travail là pour cinq ans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Comment est-ce que vous commencez dans cet hôtel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Ma dernière chef me recommander pour travail dans cet hôtel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combien de temps est-ce que vous êtes barman 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Pour dix ans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Quel est la boisson alcoolique populaire ? Massalia Exceptionnelle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	</a:t>
            </a: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Un jour come aujourd’hui, qu’est-ce que vous conseiller pour pendre boisson?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  <a:p>
            <a:pPr marL="350280" indent="-350280">
              <a:spcBef>
                <a:spcPts val="249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80000"/>
                </a:solidFill>
                <a:latin typeface="Book Antiqua"/>
              </a:rPr>
              <a:t>-Amour Sauvage, c’est un cocktail qui est préparé avec de boisson à la crème au caramel, vodka et liqueur d’amande.</a:t>
            </a:r>
            <a:endParaRPr b="0" lang="en-US" sz="1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80000"/>
                </a:solidFill>
                <a:latin typeface="Book Antiqua"/>
              </a:rPr>
              <a:t>Entrevue avec Barman</a:t>
            </a:r>
            <a:endParaRPr b="0" lang="en-US" sz="54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569880"/>
            <a:ext cx="769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680000"/>
                </a:solidFill>
                <a:latin typeface="Book Antiqua"/>
              </a:rPr>
              <a:t>La </a:t>
            </a:r>
            <a:r>
              <a:rPr b="0" lang="fr-FR" sz="4800" spc="-1" strike="noStrike">
                <a:solidFill>
                  <a:srgbClr val="680000"/>
                </a:solidFill>
                <a:latin typeface="Book Antiqua"/>
              </a:rPr>
              <a:t>Spécialité de la Maison</a:t>
            </a:r>
            <a:br>
              <a:rPr sz="4800"/>
            </a:br>
            <a:r>
              <a:rPr b="0" i="1" lang="fr-FR" sz="2000" spc="-1" strike="noStrike">
                <a:solidFill>
                  <a:srgbClr val="680000"/>
                </a:solidFill>
                <a:latin typeface="Book Antiqua"/>
              </a:rPr>
              <a:t>Massalia Exceptionnelle</a:t>
            </a:r>
            <a:endParaRPr b="0" lang="en-US" sz="2000" spc="-1" strike="noStrike">
              <a:solidFill>
                <a:srgbClr val="696464"/>
              </a:solidFill>
              <a:latin typeface="Book Antiqua"/>
            </a:endParaRPr>
          </a:p>
        </p:txBody>
      </p:sp>
      <p:pic>
        <p:nvPicPr>
          <p:cNvPr id="451" name="5 Marcador de contenido" descr=""/>
          <p:cNvPicPr/>
          <p:nvPr/>
        </p:nvPicPr>
        <p:blipFill>
          <a:blip r:embed="rId1"/>
          <a:stretch/>
        </p:blipFill>
        <p:spPr>
          <a:xfrm>
            <a:off x="3730680" y="2247840"/>
            <a:ext cx="1682640" cy="387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d34817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80000"/>
                </a:solidFill>
                <a:latin typeface="Book Antiqua"/>
              </a:rPr>
              <a:t>Les ingrédien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40 ml Rhum Ambr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50 ml de jus de toma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trait de sauce piquan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2 traits de sauce Worcestershir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Glaçons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quartier de limette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00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80000"/>
                </a:solidFill>
                <a:latin typeface="Book Antiqua"/>
              </a:rPr>
              <a:t>1 branche de céleri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80000"/>
                </a:solidFill>
                <a:latin typeface="Book Antiqua"/>
              </a:rPr>
              <a:t>Dans un verre contenant quelques glaçons, ajouter tous les ingrédients, sauf le quartier de limette et la branche de céleri. Remuer à l’aide d’une cuillère à mélange. Garnir d’un quartier de limette et d’une branche de céleri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680000"/>
                </a:solidFill>
                <a:latin typeface="Book Antiqua"/>
              </a:rPr>
              <a:t>La Recette</a:t>
            </a:r>
            <a:br>
              <a:rPr sz="5400"/>
            </a:br>
            <a:r>
              <a:rPr b="0" i="1" lang="es-AR" sz="2400" spc="-1" strike="noStrike">
                <a:solidFill>
                  <a:srgbClr val="680000"/>
                </a:solidFill>
                <a:latin typeface="Book Antiqua"/>
              </a:rPr>
              <a:t>Massalia Exceptionnelle</a:t>
            </a:r>
            <a:endParaRPr b="0" lang="en-US" sz="2400" spc="-1" strike="noStrike">
              <a:solidFill>
                <a:srgbClr val="696464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9:28:13Z</dcterms:created>
  <dc:creator>Jesica Francovig</dc:creator>
  <dc:description/>
  <dc:language>en-US</dc:language>
  <cp:lastModifiedBy>Master</cp:lastModifiedBy>
  <dcterms:modified xsi:type="dcterms:W3CDTF">2011-05-19T13:36:07Z</dcterms:modified>
  <cp:revision>30</cp:revision>
  <dc:subject/>
  <dc:title>Diapositiva 1</dc:title>
</cp:coreProperties>
</file>